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F18C-3222-458E-8683-076D2AC4F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D1D4-82A7-42D7-A871-858D96A8B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FF69-6620-4916-8EB6-D47214BBB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9F81-CC8D-4995-A0BF-FE4FB90AA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CD36-654D-4D3A-AB14-07FBD676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54E4-0059-4205-AED6-79A72C2A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E1FF-90E4-489B-B7A7-F51581461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CDD3-2629-43DE-8D21-7C6998E31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FE53-C63B-419A-BDC2-33202204F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71D3-F787-43EC-8DD6-6EF5B7F7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EFEE-1104-477F-A7F1-AFFF7F59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88EC-E170-40C3-A7E4-B52F25CF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5AFAB-5325-421F-BC92-B5F8D7D50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84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D9D275BD-186A-4491-B371-6E8A9346D6CC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240" y="236700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2060"/>
                </a:solidFill>
                <a:latin typeface="Arial"/>
              </a:rPr>
              <a:t>Process of screening: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Referral to medical health authorit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f public health official decision is to ref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transport to medical facility and notify public health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he traveler referred on travel restriction lis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Exit screening process should be accompanied by an extensive public health communication campaign to educate on the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creening for EVD at point of E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413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Upon arrival from EVD affected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rivals from EVD affected countries to provide contact information and physical addre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emperature screening of travelers from EVD affected countries ( optional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officials to provide information on EVD and Emergency contact numbers and advise on self- monitoring for signs or symptoms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3. Tools used for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creening 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nfra-red thermo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h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sca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OPs and flowcha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572000" y="2071800"/>
            <a:ext cx="4361040" cy="268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8000" y="14130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Others supplies: 9 PPE full sets at each PoE Medical equipment to survey c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3 Infrared Hand held Thermometers, 1 Scanner, 2 Observation ro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2 Health facilities and supplies for safe isolation and observation of suspect cases if possible separation room, if not, a separated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Depending on the geographical location, 1 Ambulance at P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4. Facilities, Equipment an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Key mess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1484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should be no general ban on international travel or trade to and from the affected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States should provide travellers to Ebola affected and at-risk areas with relevant information on ri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es should be prepared to detect, investigate, and manage Ebola cases and have the capacity to manage travelers originating from known Ebola-infected areas who arrive at PoE with unexplained febrile ill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The general public should be provided with accurate and relevant information on the Ebola outbreak and measures to reduce the risk of expo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78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References and additional guidelin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52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screening Ebola Guidance Package- WHO, Sept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vel and transport risk assessment: Interim guidance for public health authorities and the transport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Interim Guidance for Ebola Event Management at Points of Entry, Sept 20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General objecti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844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s presentation describes key elements for conducting screening of travellers for EVD at points of e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Learning objectiv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700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purpose of screening travelers for EVD at Points of Entry (Po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2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processes required for screening for EVD at P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3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tools used for screening at the points of e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facilities, SOPs, equipment, and supplies needed and at the points of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1: Purpose of screening for EVD at P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y person with an illness consistent with (Ebola) should not be allowed to travel unless the travel is part of an appropriate medical evacu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r Margaret Chan, WHO Director-General,8 Aug 2014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urpose of screening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Public Health Emergency (PHE) plans and SOPS should be in place at designated Points of Entry (PoEs). The aim i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early detection of potentially infected persons, isolate and mang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 WHO recommendations related to control and prevention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vent the international spread of the disease while allowing PoE authorities to avoid unnecessary restrictions and del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otential points of public health hazard  detection &amp; 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8524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507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2: 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4760" y="1236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with Ebola transmission should conduct exit screening  for all persons at international airports, seaports and major land crossings for unexplained febrile illness consistent with potential Ebola in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creening to be at the first security check before check in counter for air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Minimum requirement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emperature measurement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febrile, An assessment of the risk that fever is caused by E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rimary screening to identify travelers for exposure risk and signs of illnes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ravelers requested to fill in the travel health questionnaire to detect exposur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screening of all trave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If a traveler has fever, or exposure risk he/she should for secondary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econdary screening to further assess the risk of exposure/ infection of travelers  by trained public health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identified with suspected EVD infections /exposure are evaluated for signs and symptoms by trained public health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health staff will conduct a public health interview  more in-depth questionnaire and repeat temperature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Based on the secondary screening, public health officer may allow the travel or refer the traveler to public health or medical author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31:07Z</dcterms:modified>
  <cp:revision>334</cp:revision>
  <dc:subject/>
  <dc:title>DPC Training and Technical Update</dc:title>
</cp:coreProperties>
</file>